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FE3FC-1D2D-4056-A230-8DBECDD8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5252-A990-4595-AC79-CE6A096F20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D1E89-A22B-4098-B846-28DAAA36D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D892-337B-48A2-8E7A-02BC67A6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B8AB2-ABF3-4C77-8A16-D5A6E038F9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99B5-D9B6-42BE-8862-2D7CBBD35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BCEE4-953D-4FD7-9933-60F59D89A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34F0-6736-49C5-84C2-D3548034C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881D-C3C1-4D76-8829-231F41C4A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5131E-BE28-478E-B8E9-02EF3B7EE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6653-6DE1-4F73-8EBB-5B00EB2AC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5DC6-6D2B-47FF-9DE7-8428A528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97C8-A3BD-41B6-A014-4B2CE19A1E62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835280" y="2349360"/>
            <a:ext cx="215640" cy="358920"/>
          </a:xfrm>
          <a:prstGeom prst="upArrow">
            <a:avLst>
              <a:gd name="adj1" fmla="val 50000"/>
              <a:gd name="adj2" fmla="val 4161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0" y="0"/>
          <a:ext cx="9144000" cy="6959520"/>
        </p:xfrm>
        <a:graphic>
          <a:graphicData uri="http://schemas.openxmlformats.org/drawingml/2006/table">
            <a:tbl>
              <a:tblPr/>
              <a:tblGrid>
                <a:gridCol w="4284720"/>
                <a:gridCol w="358560"/>
                <a:gridCol w="1584360"/>
                <a:gridCol w="2916360"/>
              </a:tblGrid>
              <a:tr h="1283400">
                <a:tc row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TITUDE:      N 46°16.20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ONGITUDE:  E 006°27.76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TITUDE:      1100 m     3608 f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EQUENCE: 122.500 M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QFU: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02/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le d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ilotag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eu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éman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ont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B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lan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élisurface des Moi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74420 HABERE POCH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él. fax: 04 50 39 56 5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3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APPROCHE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:         Eviter le survol de  villages de la vallée vert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Vent arrière à l’ouest, passage d’un col en étape de base.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9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Tahoma"/>
                        </a:rPr>
                        <a:t>PISTE: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                                       </a:t>
                      </a:r>
                      <a:r>
                        <a:rPr b="1" lang="en-US" sz="9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965m  X  45m  Herbe rase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875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PROFIL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621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900" spc="-1" strike="noStrike" u="sng">
                          <a:solidFill>
                            <a:srgbClr val="000000"/>
                          </a:solidFill>
                          <a:uFillTx/>
                          <a:latin typeface="Arial"/>
                        </a:rPr>
                        <a:t>OBSERVATION: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SERVE UNIQUEMEN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X PLANEURS ET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TOPLANEURS</a:t>
                      </a:r>
                      <a:r>
                        <a:rPr b="0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COLLAGES PAR TREUIL 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VITER LA VERTICALE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UT DECOLLAGE AU MOTEU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 EXCLU.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5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5219640" y="1773360"/>
            <a:ext cx="3446640" cy="8492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932360" y="2060640"/>
            <a:ext cx="438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567640" y="198900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84720" y="2781360"/>
          <a:ext cx="2735280" cy="1276200"/>
        </p:xfrm>
        <a:graphic>
          <a:graphicData uri="http://schemas.openxmlformats.org/drawingml/2006/table">
            <a:tbl>
              <a:tblPr/>
              <a:tblGrid>
                <a:gridCol w="1441440"/>
                <a:gridCol w="669960"/>
                <a:gridCol w="623880"/>
              </a:tblGrid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I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CHE A AIR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LISAG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BRIS AVION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ITE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5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AS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7" name=""/>
          <p:cNvSpPr/>
          <p:nvPr/>
        </p:nvSpPr>
        <p:spPr>
          <a:xfrm>
            <a:off x="1763640" y="19890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rot="757200">
            <a:off x="1908000" y="2637000"/>
            <a:ext cx="73080" cy="647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908000" y="2997360"/>
            <a:ext cx="360360" cy="792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1042560" y="2997360"/>
            <a:ext cx="8650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27280" y="4724280"/>
            <a:ext cx="93672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979640" y="3789360"/>
            <a:ext cx="863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ALLANCHE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050920" y="3284640"/>
            <a:ext cx="1008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150° 20 N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9280" y="328464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Arial"/>
              </a:rPr>
              <a:t>ANNEMAS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5640" y="2997360"/>
            <a:ext cx="936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240° 9 N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0" y="4192560"/>
            <a:ext cx="4284720" cy="26654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7" name=""/>
          <p:cNvSpPr/>
          <p:nvPr/>
        </p:nvSpPr>
        <p:spPr>
          <a:xfrm flipV="1">
            <a:off x="2124000" y="5877000"/>
            <a:ext cx="71640" cy="287280"/>
          </a:xfrm>
          <a:prstGeom prst="line">
            <a:avLst/>
          </a:prstGeom>
          <a:ln w="5724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668840" y="4149720"/>
            <a:ext cx="4475160" cy="270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9" name=""/>
          <p:cNvSpPr/>
          <p:nvPr/>
        </p:nvSpPr>
        <p:spPr>
          <a:xfrm>
            <a:off x="0" y="1916280"/>
            <a:ext cx="428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1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05T10:54:05Z</dcterms:created>
  <dc:creator>Alloin</dc:creator>
  <dc:description/>
  <dc:language>en-US</dc:language>
  <cp:lastModifiedBy>Alloin</cp:lastModifiedBy>
  <dcterms:modified xsi:type="dcterms:W3CDTF">2005-04-05T10:54:15Z</dcterms:modified>
  <cp:revision>1</cp:revision>
  <dc:subject/>
  <dc:title>Diapositiv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431486765</vt:r8>
  </property>
  <property fmtid="{D5CDD505-2E9C-101B-9397-08002B2CF9AE}" pid="3" name="_AuthorEmail">
    <vt:lpwstr>michelalloin@wanadoo.fr</vt:lpwstr>
  </property>
  <property fmtid="{D5CDD505-2E9C-101B-9397-08002B2CF9AE}" pid="4" name="_AuthorEmailDisplayName">
    <vt:lpwstr>michelalloin</vt:lpwstr>
  </property>
  <property fmtid="{D5CDD505-2E9C-101B-9397-08002B2CF9AE}" pid="5" name="_EmailSubject">
    <vt:lpwstr>fiche Habere Poche</vt:lpwstr>
  </property>
</Properties>
</file>